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B6E-111D-4B4B-BC84-A213897E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6D9-974E-411B-9FE4-C7CC93B1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8B6-47EE-4450-AAE4-5853A2AD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F8F-67C5-46BA-A331-46020E4D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EA75-079E-40CA-8E49-4D133314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6845-01C5-49C4-8568-B90E4D0B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6340-577C-412C-AD2D-3709A1C8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2C45-AE13-4BF4-86DD-F5DDD30A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0DAC-0F59-4C9C-BCD6-7351BE1B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4851-1C26-48A6-9258-4DD4BE17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B5CB-6855-4BA0-A0C8-D77D1F34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042-B48B-4015-9F3B-83E281DC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FD87-239E-4E54-9507-7598A13F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E8B5-767D-4DA3-B2E6-F3D76F14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56B5-7AD3-46F6-A73C-55C2E23E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2950-F202-4A66-BC5F-E9471672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F872-6E5A-4602-B144-C99A0F8D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A88C-FF32-42B8-93A0-151791D1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090-8BD3-48FE-8F8D-0BD0ADE9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DC56-AE72-4E42-B938-D4492FCF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BB3-B943-4570-9CC6-775843FE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841A-0AA2-40EB-81C5-C6BAFE74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57C-321F-40E5-A1BD-B86B819B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188D-A3B2-4648-8422-2D884B7B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C:\Users\Alex\Desktop\Send Back to FTP\LO banner art\BIO10NAE_16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8D54-F941-4255-8D83-623DF274F1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1446-E2FB-4AA1-9C56-5E59119B1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wi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Voyage of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2" descr="C:\Users\Alex\Desktop\Send Back to FTP\LO banner art\BIO10NAE_16_LOT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5" name="Text Placeholder 2"/>
          <p:cNvSpPr/>
          <p:nvPr/>
        </p:nvSpPr>
        <p:spPr>
          <a:xfrm>
            <a:off x="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sson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2971800" y="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wi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Voyage of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Alex\Desktop\Send Back to FTP\LO banner art\BIO10NAE_28_LOTB.jpg"/>
          <p:cNvPicPr/>
          <p:nvPr/>
        </p:nvPicPr>
        <p:blipFill>
          <a:blip r:embed="rId3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Alex\Desktop\Send Back to FTP\LO banner art\BIO10NAE_01_LOTB.jpg"/>
          <p:cNvPicPr/>
          <p:nvPr/>
        </p:nvPicPr>
        <p:blipFill>
          <a:blip r:embed="rId4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802D-C0EF-4C96-887C-C830F56DC5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A43A-F224-4A40-B0EF-60CB64BCA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Bell Ring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5345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are 2 things that you didn’t know about Darwin that you learned from the vide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  <a:ea typeface="Arial"/>
              </a:rPr>
              <a:t>Darwin found many unique spec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4419720"/>
            <a:ext cx="8991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y of Darwin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 observations made him wonder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Calibri"/>
              </a:rPr>
              <a:t>Darwin asked: </a:t>
            </a:r>
            <a:r>
              <a:rPr b="1" lang="en-US" sz="2800" spc="-1" strike="noStrike">
                <a:solidFill>
                  <a:srgbClr val="0f116a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y were these creatures found only 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Galapagos Island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30560" cy="2098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f116a"/>
            </a:outerShdw>
          </a:effectLst>
        </p:spPr>
      </p:pic>
      <p:pic>
        <p:nvPicPr>
          <p:cNvPr id="124" name="Picture 7" descr=""/>
          <p:cNvPicPr/>
          <p:nvPr/>
        </p:nvPicPr>
        <p:blipFill>
          <a:blip r:embed="rId2"/>
          <a:srcRect l="17088" t="16366" r="4882" b="0"/>
          <a:stretch/>
        </p:blipFill>
        <p:spPr>
          <a:xfrm>
            <a:off x="3429000" y="1600200"/>
            <a:ext cx="2141640" cy="1711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125" name="Picture 5" descr=""/>
          <p:cNvPicPr/>
          <p:nvPr/>
        </p:nvPicPr>
        <p:blipFill>
          <a:blip r:embed="rId3"/>
          <a:stretch/>
        </p:blipFill>
        <p:spPr>
          <a:xfrm>
            <a:off x="380880" y="1676520"/>
            <a:ext cx="281952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rwin found…clues in the fossi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arwin foun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4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vid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organisms have changed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tinct armadillos &amp; modern armadillos can be found on the same conti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Users\Alex\Desktop\Batch 4\Art\Art 3_18_09+\BIO10NAE_05_16_02_005_LRIM_09.png"/>
          <p:cNvPicPr/>
          <p:nvPr/>
        </p:nvPicPr>
        <p:blipFill>
          <a:blip r:embed="rId1"/>
          <a:stretch/>
        </p:blipFill>
        <p:spPr>
          <a:xfrm>
            <a:off x="4724280" y="1447920"/>
            <a:ext cx="4267440" cy="38098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152280" y="54100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ssils are the preserved remains or traces of ancient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rwin found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fferent shells on tortoises from different is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veral islands in the Galapagos were home to distinct forms of giant land tortoi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ortoises’ shells varied in predictable ways from one island to anoth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hape of the tortoises’ shells corresponds to different habita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032" descr=""/>
          <p:cNvPicPr/>
          <p:nvPr/>
        </p:nvPicPr>
        <p:blipFill>
          <a:blip r:embed="rId1"/>
          <a:stretch/>
        </p:blipFill>
        <p:spPr>
          <a:xfrm>
            <a:off x="4952880" y="3657600"/>
            <a:ext cx="3988080" cy="2990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133" name="Picture 1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rwin found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fferent shells on tortoises from different is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1026" descr=""/>
          <p:cNvPicPr/>
          <p:nvPr/>
        </p:nvPicPr>
        <p:blipFill>
          <a:blip r:embed="rId1"/>
          <a:srcRect l="0" t="0" r="2457" b="17222"/>
          <a:stretch/>
        </p:blipFill>
        <p:spPr>
          <a:xfrm>
            <a:off x="1066680" y="2057400"/>
            <a:ext cx="658332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arwin’s Finch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rcRect l="0" t="1200" r="14399" b="0"/>
          <a:stretch/>
        </p:blipFill>
        <p:spPr>
          <a:xfrm>
            <a:off x="4419720" y="2057400"/>
            <a:ext cx="4495680" cy="41911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72428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rwin found many different birds on the Galapagos Islan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28600" y="41148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hought that he had found many different types of bi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Darwin found… a lot of </a:t>
            </a:r>
            <a:r>
              <a:rPr b="0" i="1" lang="en-US" sz="3200" spc="-1" strike="noStrike" u="sng">
                <a:solidFill>
                  <a:srgbClr val="cc0000"/>
                </a:solidFill>
                <a:uFillTx/>
                <a:latin typeface="Calibri"/>
              </a:rPr>
              <a:t>fi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rcRect l="0" t="1200" r="14399" b="0"/>
          <a:stretch/>
        </p:blipFill>
        <p:spPr>
          <a:xfrm>
            <a:off x="4876920" y="1600200"/>
            <a:ext cx="4038480" cy="3733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649760" cy="245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01"/>
                </a:solidFill>
                <a:latin typeface="Calibri"/>
              </a:rPr>
              <a:t>Darwin was amazed to </a:t>
            </a:r>
            <a:br>
              <a:rPr sz="3200"/>
            </a:br>
            <a:r>
              <a:rPr b="0" lang="en-US" sz="3200" spc="-1" strike="noStrike">
                <a:solidFill>
                  <a:srgbClr val="006c01"/>
                </a:solidFill>
                <a:latin typeface="Calibri"/>
              </a:rPr>
              <a:t>find out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14 species of bird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e actu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inch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304920" y="3581280"/>
            <a:ext cx="4952880" cy="140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there is only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pecies of finch on the mainl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304920" y="5029200"/>
            <a:ext cx="861048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c01"/>
                </a:solidFill>
                <a:latin typeface="Arial"/>
                <a:ea typeface="Arial"/>
              </a:rPr>
              <a:t>Darwin ask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the Galapagos finches came from the mainland, why are they so different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rcRect l="0" t="1200" r="14399" b="0"/>
          <a:stretch/>
        </p:blipFill>
        <p:spPr>
          <a:xfrm>
            <a:off x="5181480" y="1600200"/>
            <a:ext cx="3733920" cy="2666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560" y="1523520"/>
            <a:ext cx="571500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beaks are inherited variation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erve as adaptations that help birds compete for f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se birds survive &amp; reproduce mo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ass on the genes for those more fit bea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Over time nature selected for different species with different bea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Users\Alex\Desktop\Batch 4\Art\Art 3_18_09+\BIO10NAE_05_16_02_005_LRIM_08.png"/>
          <p:cNvPicPr/>
          <p:nvPr/>
        </p:nvPicPr>
        <p:blipFill>
          <a:blip r:embed="rId2"/>
          <a:stretch/>
        </p:blipFill>
        <p:spPr>
          <a:xfrm>
            <a:off x="2476440" y="5334120"/>
            <a:ext cx="6667560" cy="15238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Darwin’s Conclu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ship between species (beaks) &amp;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0" t="0" r="0" b="3786"/>
          <a:stretch/>
        </p:blipFill>
        <p:spPr>
          <a:xfrm>
            <a:off x="685800" y="1523880"/>
            <a:ext cx="7640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From 1 Species to 14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Group 27"/>
          <p:cNvGrpSpPr/>
          <p:nvPr/>
        </p:nvGrpSpPr>
        <p:grpSpPr>
          <a:xfrm>
            <a:off x="-66600" y="1981080"/>
            <a:ext cx="9210600" cy="4587840"/>
            <a:chOff x="-66600" y="1981080"/>
            <a:chExt cx="9210600" cy="4587840"/>
          </a:xfrm>
        </p:grpSpPr>
        <p:pic>
          <p:nvPicPr>
            <p:cNvPr id="153" name="Picture 9" descr=""/>
            <p:cNvPicPr/>
            <p:nvPr/>
          </p:nvPicPr>
          <p:blipFill>
            <a:blip r:embed="rId1"/>
            <a:srcRect l="0" t="7504" r="0" b="22504"/>
            <a:stretch/>
          </p:blipFill>
          <p:spPr>
            <a:xfrm>
              <a:off x="270000" y="1981080"/>
              <a:ext cx="8735760" cy="45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10"/>
            <p:cNvSpPr/>
            <p:nvPr/>
          </p:nvSpPr>
          <p:spPr>
            <a:xfrm>
              <a:off x="3163320" y="2460240"/>
              <a:ext cx="129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arbler fin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1049760" y="2964960"/>
              <a:ext cx="175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odpecker fin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2"/>
            <p:cNvSpPr/>
            <p:nvPr/>
          </p:nvSpPr>
          <p:spPr>
            <a:xfrm>
              <a:off x="446040" y="3623760"/>
              <a:ext cx="1522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mall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sectivoro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ee fin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>
              <a:off x="-66600" y="4377960"/>
              <a:ext cx="14907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r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sectivoro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ee fin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>
              <a:off x="247320" y="5711400"/>
              <a:ext cx="10371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getar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ee fin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4935600" y="2460240"/>
              <a:ext cx="1215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ctus fin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6289200" y="2964960"/>
              <a:ext cx="18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harp-beaked fin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7"/>
            <p:cNvSpPr/>
            <p:nvPr/>
          </p:nvSpPr>
          <p:spPr>
            <a:xfrm>
              <a:off x="7451640" y="3623760"/>
              <a:ext cx="6973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mall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n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8"/>
            <p:cNvSpPr/>
            <p:nvPr/>
          </p:nvSpPr>
          <p:spPr>
            <a:xfrm>
              <a:off x="7899480" y="4632120"/>
              <a:ext cx="9586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di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und fin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9"/>
            <p:cNvSpPr/>
            <p:nvPr/>
          </p:nvSpPr>
          <p:spPr>
            <a:xfrm>
              <a:off x="8185320" y="5533560"/>
              <a:ext cx="9586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rge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n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0"/>
            <p:cNvSpPr/>
            <p:nvPr/>
          </p:nvSpPr>
          <p:spPr>
            <a:xfrm>
              <a:off x="3338280" y="5135400"/>
              <a:ext cx="123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sect ea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1"/>
            <p:cNvSpPr/>
            <p:nvPr/>
          </p:nvSpPr>
          <p:spPr>
            <a:xfrm>
              <a:off x="3161520" y="5927400"/>
              <a:ext cx="93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d ea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2"/>
            <p:cNvSpPr/>
            <p:nvPr/>
          </p:nvSpPr>
          <p:spPr>
            <a:xfrm>
              <a:off x="4860360" y="5454360"/>
              <a:ext cx="1139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ed ea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3"/>
            <p:cNvSpPr/>
            <p:nvPr/>
          </p:nvSpPr>
          <p:spPr>
            <a:xfrm>
              <a:off x="4511160" y="446040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ct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a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4"/>
            <p:cNvSpPr/>
            <p:nvPr/>
          </p:nvSpPr>
          <p:spPr>
            <a:xfrm rot="20940000">
              <a:off x="3981240" y="3758760"/>
              <a:ext cx="756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arbl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n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5"/>
            <p:cNvSpPr/>
            <p:nvPr/>
          </p:nvSpPr>
          <p:spPr>
            <a:xfrm rot="18262800">
              <a:off x="2337840" y="4686120"/>
              <a:ext cx="1194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ee finch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6"/>
            <p:cNvSpPr/>
            <p:nvPr/>
          </p:nvSpPr>
          <p:spPr>
            <a:xfrm rot="3307200">
              <a:off x="5719680" y="4802040"/>
              <a:ext cx="149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und finch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23920" y="1904760"/>
            <a:ext cx="44197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Arial"/>
                <a:ea typeface="Arial"/>
              </a:rPr>
              <a:t>Lesson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648320" y="3200400"/>
            <a:ext cx="449568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.1 Darwi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 Voyag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f Disco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1639" t="1195" r="0" b="0"/>
          <a:stretch/>
        </p:blipFill>
        <p:spPr>
          <a:xfrm>
            <a:off x="31680" y="152280"/>
            <a:ext cx="4732560" cy="6513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THINK ABOUT IT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’d met young Charles Darwin, you probably wouldn’t have guessed that his ideas would change the way we look at the world. As a boy, Darwin wasn’t a star stud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et Charles would one day come up with one of the most important scientific theories of all ti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Users\Alex\Desktop\Batch 4\Art\Art 3_18_09+\BIO10NAE_05_16_02_005_LRIM_01.png"/>
          <p:cNvPicPr/>
          <p:nvPr/>
        </p:nvPicPr>
        <p:blipFill>
          <a:blip r:embed="rId1"/>
          <a:stretch/>
        </p:blipFill>
        <p:spPr>
          <a:xfrm>
            <a:off x="5587920" y="1365120"/>
            <a:ext cx="355608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Daily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ain Charles Darwin’s contribution to sci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ain how modern organisms have evolved over long periods of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Essential Ques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do organisms change over ti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key-icon"/>
          <p:cNvPicPr/>
          <p:nvPr/>
        </p:nvPicPr>
        <p:blipFill>
          <a:blip r:embed="rId1"/>
          <a:stretch/>
        </p:blipFill>
        <p:spPr>
          <a:xfrm>
            <a:off x="304920" y="1676520"/>
            <a:ext cx="41904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Charles Darw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roposed an explanation of how evolution 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Organism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over long periods of time by natural 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Collected a lot of evidence to support his ide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Lived from 1809-188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British natura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rcRect l="0" t="3652" r="0" b="0"/>
          <a:stretch/>
        </p:blipFill>
        <p:spPr>
          <a:xfrm>
            <a:off x="6324480" y="762120"/>
            <a:ext cx="2819520" cy="3450960"/>
          </a:xfrm>
          <a:prstGeom prst="rect">
            <a:avLst/>
          </a:prstGeom>
          <a:ln w="9360">
            <a:solidFill>
              <a:srgbClr val="121212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Darwin</a:t>
            </a:r>
            <a:r>
              <a:rPr b="1" lang="ja-JP" sz="4000" spc="-1" strike="noStrike">
                <a:solidFill>
                  <a:srgbClr val="339966"/>
                </a:solidFill>
                <a:latin typeface="Arial"/>
                <a:ea typeface="Arial"/>
              </a:rPr>
              <a:t>’</a:t>
            </a: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s Epic Journe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ited to travel around the world on the HMS Beag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1831-1836 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(22 years o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s many observations of n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mission of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eag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as to cha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th American coast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Users\Alex\Desktop\Batch 4\Art\Art 3_18_09+\BIO10NAE_05_16_02_005_LRIM_02.png"/>
          <p:cNvPicPr/>
          <p:nvPr/>
        </p:nvPicPr>
        <p:blipFill>
          <a:blip r:embed="rId1"/>
          <a:stretch/>
        </p:blipFill>
        <p:spPr>
          <a:xfrm>
            <a:off x="-1981080" y="4343400"/>
            <a:ext cx="91422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rcRect l="2400" t="2151" r="3221" b="17166"/>
          <a:stretch/>
        </p:blipFill>
        <p:spPr>
          <a:xfrm>
            <a:off x="5257800" y="4038480"/>
            <a:ext cx="3560760" cy="2279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Observations Aboard the </a:t>
            </a:r>
            <a:r>
              <a:rPr b="1" i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Beag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Beagle 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ped in the Galapagos Is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Located 500 miles off coast of Ecua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228600" y="2874960"/>
            <a:ext cx="8458200" cy="3962520"/>
          </a:xfrm>
          <a:prstGeom prst="rect">
            <a:avLst/>
          </a:prstGeom>
          <a:ln w="0">
            <a:noFill/>
          </a:ln>
        </p:spPr>
      </p:pic>
      <p:sp>
        <p:nvSpPr>
          <p:cNvPr id="114" name="Oval 7"/>
          <p:cNvSpPr/>
          <p:nvPr/>
        </p:nvSpPr>
        <p:spPr>
          <a:xfrm>
            <a:off x="1523880" y="4191120"/>
            <a:ext cx="784440" cy="738000"/>
          </a:xfrm>
          <a:prstGeom prst="ellipse">
            <a:avLst/>
          </a:prstGeom>
          <a:noFill/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Galapagos Isla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ntly formed volcanic island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Most of animals on the Galápagos live nowhere else in world, but they look like species living on South American main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Group 5"/>
          <p:cNvGrpSpPr/>
          <p:nvPr/>
        </p:nvGrpSpPr>
        <p:grpSpPr>
          <a:xfrm>
            <a:off x="5638680" y="1905120"/>
            <a:ext cx="3200400" cy="4432320"/>
            <a:chOff x="5638680" y="1905120"/>
            <a:chExt cx="3200400" cy="4432320"/>
          </a:xfrm>
        </p:grpSpPr>
        <p:sp>
          <p:nvSpPr>
            <p:cNvPr id="118" name="Rectangle 6"/>
            <p:cNvSpPr/>
            <p:nvPr/>
          </p:nvSpPr>
          <p:spPr>
            <a:xfrm>
              <a:off x="5638680" y="1905120"/>
              <a:ext cx="3200400" cy="443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7" descr=""/>
            <p:cNvPicPr/>
            <p:nvPr/>
          </p:nvPicPr>
          <p:blipFill>
            <a:blip r:embed="rId1"/>
            <a:stretch/>
          </p:blipFill>
          <p:spPr>
            <a:xfrm>
              <a:off x="5638680" y="1905120"/>
              <a:ext cx="3200400" cy="443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Oval 7"/>
          <p:cNvSpPr/>
          <p:nvPr/>
        </p:nvSpPr>
        <p:spPr>
          <a:xfrm>
            <a:off x="5410080" y="2438280"/>
            <a:ext cx="784440" cy="738360"/>
          </a:xfrm>
          <a:prstGeom prst="ellipse">
            <a:avLst/>
          </a:prstGeom>
          <a:noFill/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0:20:54Z</dcterms:created>
  <dc:creator>Alex</dc:creator>
  <dc:description/>
  <dc:language>en-US</dc:language>
  <cp:lastModifiedBy>dzahm</cp:lastModifiedBy>
  <dcterms:modified xsi:type="dcterms:W3CDTF">2013-10-09T14:44:11Z</dcterms:modified>
  <cp:revision>199</cp:revision>
  <dc:subject/>
  <dc:title>Slide 1</dc:title>
</cp:coreProperties>
</file>